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334F8-8165-4CEF-8C8D-02E24165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28600" y="4230360"/>
            <a:ext cx="876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19A84-658C-4219-A843-77BB7B2B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18880" y="152388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28600" y="423036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18880" y="423036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864AD-EC52-4AAB-B7D6-5E1D4F12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91400" y="152388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54200" y="152388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28600" y="423036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91400" y="423036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54200" y="423036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B3912-833F-468F-B17E-4B1BCE6E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189B-58BD-40E0-B4CE-0678A5FB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9B76-9FD2-453B-817B-50A3722A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BBF9-7EBE-4C4E-B594-1D168DA0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76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8880" y="1523880"/>
            <a:ext cx="4276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ED31-B131-4E7C-8CE7-21E9CEFA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858A-C8AF-4A3A-AECE-4BAE80CB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80520" y="380880"/>
            <a:ext cx="861084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5E58-94D6-458A-B877-319499EE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8880" y="1523880"/>
            <a:ext cx="4276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600" y="423036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410C-1392-435E-814B-2C1771F7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936ED-6F0B-4AB5-BF90-D18B772A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76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8880" y="152388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8880" y="423036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613D-79CB-4283-87CC-A76B48BD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8880" y="152388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600" y="4230360"/>
            <a:ext cx="876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03FD-9AD7-474B-97EC-8011D70E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600" y="4230360"/>
            <a:ext cx="876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6693-AD50-4104-BE19-809C3B46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8880" y="152388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600" y="423036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8880" y="423036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ADF4-45BD-4C75-B044-90650B4B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191400" y="152388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54200" y="152388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600" y="423036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191400" y="423036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54200" y="423036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CE03-9CCB-47C6-B5E1-0095F83A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45FED-2D13-4662-9A27-6A1A494A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76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523880"/>
            <a:ext cx="4276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01607-2C77-4E83-AF4B-8877EE92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7225D-B2B0-4448-8795-01950F98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80520" y="380880"/>
            <a:ext cx="861084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7B6AD-52AC-45F1-8338-CBB142DA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8880" y="1523880"/>
            <a:ext cx="4276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423036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4A1E5-FB01-4B17-BF89-E65A1BCE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76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52388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18880" y="423036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BB13D-A736-4B87-A563-D6CA0E6C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8880" y="152388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230360"/>
            <a:ext cx="876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7B643-A80B-46CE-A434-CF89A781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66AC-683D-4E1E-9643-364D4E28F6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22860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C7CE-2A88-4512-9D6A-11D13C226E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971800" y="1980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ildlife Habitat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What are the types of wildlife habitat?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bitat for animal wildlife can be classified based on ecosystem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systems are in areas known as biom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omes are large areas with distinct combinations of animals and pla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676520" y="574560"/>
            <a:ext cx="5545080" cy="613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What are habitat requirements for selected species of animal wildlife?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dlife species have life requirements that must be met by their habitat to insure well-be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What are the goals of habitat production?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bitat management influences the kinds and diversity of species attracted to the are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main goal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vide a habitat for a specific wildlife spec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vide habitats for many different wildlife spec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048120" y="0"/>
            <a:ext cx="545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21:05:50Z</dcterms:created>
  <dc:creator>Matt &amp; Faith Saxe</dc:creator>
  <dc:description/>
  <dc:language>en-US</dc:language>
  <cp:lastModifiedBy>Alicia Burge</cp:lastModifiedBy>
  <dcterms:modified xsi:type="dcterms:W3CDTF">2011-04-26T21:30:38Z</dcterms:modified>
  <cp:revision>31</cp:revision>
  <dc:subject/>
  <dc:title>Environmental Resources Cluster</dc:title>
</cp:coreProperties>
</file>